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E0D-D481-497C-92C0-B9F9FC39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847F-58C4-4CAA-8C9A-198CE7DA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A26-9407-4DDE-8EC3-6AFC7EC1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560-590B-4FC3-B073-6428E849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A1D0-3BA5-4E8A-8577-0E6DE4B9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4EB9-0F4C-4EEC-8ACA-D2ACBF32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72E0-404E-4792-B1CC-9C897B95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7EC8-AF43-4C3B-887E-793BD494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6094-FA0B-42AC-8606-AEE29ABE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3A44-917A-4B23-80AA-B6B2EA62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3731-6526-4FC4-9A4F-6BD9960C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08B-BBE0-4281-B14C-67BF1289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B928-8064-4F1F-A880-0405AC53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CBA6-A19B-4DD4-81E7-9CA8A369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FB85-489F-4282-9B4E-858CF0D2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8DDD-F895-463F-A3D7-F87420B7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477B-47DE-4CAA-954A-FE0528A5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251-ABB5-4F8D-BC57-38117BD7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5F5-3188-424C-AA24-F06F6CFC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0B7C-A99A-4428-93D7-FBF389FA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372-22C3-4032-9498-BC53D23A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4DD-3BA5-4D5E-B7CF-E86EEB0B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A35-4B3C-48DC-9665-675C846F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363-75C1-47FA-951B-F0C6F26C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7132-E1CB-4D8A-92DF-0374E7F08E6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C8B5-63BF-4774-943C-FBF3C7D6570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АГЕН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нилац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је ПРИСУСТВО, ОБИ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 или релативно одсуство представ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 НУ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Н УСЛОВ за настанак обо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Cirilica"/>
              </a:rPr>
              <a:t>БИОЛО</a:t>
            </a:r>
            <a:r>
              <a:rPr b="0" lang="sr-CS" sz="3200" spc="-1" strike="noStrike">
                <a:solidFill>
                  <a:srgbClr val="ffff00"/>
                </a:solidFill>
                <a:latin typeface="Times Cirilica"/>
              </a:rPr>
              <a:t>Ш</a:t>
            </a:r>
            <a:r>
              <a:rPr b="0" lang="en-US" sz="3200" spc="-1" strike="noStrike">
                <a:solidFill>
                  <a:srgbClr val="ffff00"/>
                </a:solidFill>
                <a:latin typeface="Times Cirilica"/>
              </a:rPr>
              <a:t>КИ АГЕНСИ- Каракетисике </a:t>
            </a:r>
            <a:r>
              <a:rPr b="0" lang="sr-CS" sz="3200" spc="-1" strike="noStrike">
                <a:solidFill>
                  <a:srgbClr val="ffff00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00"/>
                </a:solidFill>
                <a:latin typeface="Times Cirilica"/>
              </a:rPr>
              <a:t>ивих проузрокова</a:t>
            </a:r>
            <a:r>
              <a:rPr b="0" lang="sr-CS" sz="32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00"/>
                </a:solidFill>
                <a:latin typeface="Times Cirilica"/>
              </a:rPr>
              <a:t>а од којих зависи настанак ЗАРАЗНОГ обо</a:t>
            </a:r>
            <a:r>
              <a:rPr b="0" lang="sr-CS" sz="32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0" lang="en-US" sz="32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0" lang="sr-CS" sz="32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00"/>
                </a:solidFill>
                <a:latin typeface="Times Cirilica"/>
              </a:rPr>
              <a:t>а:</a:t>
            </a:r>
            <a:r>
              <a:rPr b="0" lang="en-US" sz="4000" spc="-1" strike="noStrike">
                <a:solidFill>
                  <a:srgbClr val="ffffcc"/>
                </a:solidFill>
                <a:latin typeface="Times Cirilic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 изл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из орган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 уласка у организ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тоге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фектив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нтагиз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рулен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Т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кс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муногено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ет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ост и резистенција на лекове и дезинфекциона сред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тпорност у сп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ш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ј среди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Клацификација п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роузроков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ча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 заразних болести према ОТПОРНОСТИ у СПО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Љ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ШЊ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ОЈ СРЕДИНИ</a:t>
            </a:r>
            <a:r>
              <a:rPr b="0" lang="sr-CS" sz="4000" spc="-1" strike="noStrike">
                <a:solidFill>
                  <a:srgbClr val="ffffcc"/>
                </a:solidFill>
                <a:latin typeface="Times Cirilica"/>
              </a:rPr>
              <a:t> –</a:t>
            </a:r>
            <a:r>
              <a:rPr b="0" lang="sr-CS" sz="2800" spc="-1" strike="noStrike">
                <a:solidFill>
                  <a:srgbClr val="ffffcc"/>
                </a:solidFill>
                <a:latin typeface="Times Cirilica"/>
              </a:rPr>
              <a:t>1/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1. 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блигатн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парази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ван организма брзо пропада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морбили, сифилис, гонореја, епидем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ни менингит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2.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ко време опстају ван организма, али се НЕ размно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бацил ТБ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Клацификација п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роузроков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ча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 заразних болести према ОТПОРНОСТИ у СПО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Љ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А</a:t>
            </a:r>
            <a:r>
              <a:rPr b="0" lang="sr-CS" sz="3600" spc="-1" strike="noStrike">
                <a:solidFill>
                  <a:srgbClr val="ffffcc"/>
                </a:solidFill>
                <a:latin typeface="Times Cirilica"/>
              </a:rPr>
              <a:t>ШЊ</a:t>
            </a:r>
            <a:r>
              <a:rPr b="0" lang="en-US" sz="3600" spc="-1" strike="noStrike">
                <a:solidFill>
                  <a:srgbClr val="ffffcc"/>
                </a:solidFill>
                <a:latin typeface="Times Cirilica"/>
              </a:rPr>
              <a:t>ОЈ СРЕДИНИ</a:t>
            </a:r>
            <a:r>
              <a:rPr b="0" lang="sr-CS" sz="4000" spc="-1" strike="noStrike">
                <a:solidFill>
                  <a:srgbClr val="ffffcc"/>
                </a:solidFill>
                <a:latin typeface="Times Cirilica"/>
              </a:rPr>
              <a:t> –</a:t>
            </a:r>
            <a:r>
              <a:rPr b="0" lang="sr-CS" sz="2800" spc="-1" strike="noStrike">
                <a:solidFill>
                  <a:srgbClr val="ffffcc"/>
                </a:solidFill>
                <a:latin typeface="Times Cirilica"/>
              </a:rPr>
              <a:t>2/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3. ВАН ОРГАНИЗМА у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пово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Times Cirilica"/>
              </a:rPr>
              <a:t>љ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ним условима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е РАЗМН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ВА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 т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рбушн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тифус, паратифус, колера, дизентер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4.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Д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уго опстају у сп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ш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ој средини у облику СП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 анаеробне бактерије-проузроков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 тетануса, гасне гангрене, ботули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УТИЦАЈ ВИРУЛЕНЦИЈЕ И КОЛИ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ИНЕ КЛИЦА НА ПОЈАВУ ОБО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А И ЕПИДЕМИЈСКОГ ПРОЦЕС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Особине биолошког агенса одоворне за појаву заразних боле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тоген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онтагиозн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нфективн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рулен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ол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УТИЦАЈ ВИРУЛЕНЦИЈЕ И КОЛИ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ИНЕ КЛИЦА НА ПОЈАВУ ОБО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А И ЕПИДЕМИЈСКОГ ПРОЦЕС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АТОГЕНОС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Ф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зиолошка особин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врс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ОНТАГИОЗНОС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Л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ко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 којом се болес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РЕНОСИ на друге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ФЕКТИВНОС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особност агенса да ПРОДРЕ у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, ОДР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 се и РАЗМНО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 (развија у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му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УТИЦАЈ ВИРУЛЕНЦИЈЕ И КОЛИ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ИНЕ КЛИЦА НА ПОЈАВУ ОБО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Љ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Е</a:t>
            </a:r>
            <a:r>
              <a:rPr b="1" lang="sr-CS" sz="2800" spc="-1" strike="noStrike">
                <a:solidFill>
                  <a:srgbClr val="ffff00"/>
                </a:solidFill>
                <a:latin typeface="Times Cirilica"/>
              </a:rPr>
              <a:t>Њ</a:t>
            </a:r>
            <a:r>
              <a:rPr b="1" lang="en-US" sz="2800" spc="-1" strike="noStrike">
                <a:solidFill>
                  <a:srgbClr val="ffff00"/>
                </a:solidFill>
                <a:latin typeface="Times Cirilica"/>
              </a:rPr>
              <a:t>А И ЕПИДЕМИЈСКОГ ПРОЦЕС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ВИРУЛЕНЦИЈА   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С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тепен патоге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Pромен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 особин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микроорганиза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Фактори дом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а и средине м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ју вируленци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Мог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ост слаб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вируленције користи с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за производ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их вакци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 број пас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на вешт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ким хранилиштима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атенуација,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задр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вају своје антигене особине (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е вакцине – МоРуПар</a:t>
            </a:r>
            <a:r>
              <a:rPr b="0" lang="en-US" sz="2400" spc="-1" strike="noStrike">
                <a:solidFill>
                  <a:srgbClr val="ffffff"/>
                </a:solidFill>
                <a:latin typeface="Times Cirilic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КОЛИ</a:t>
            </a:r>
            <a:r>
              <a:rPr b="0" lang="sr-CS" sz="40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ИНА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(инфективна доза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Ут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 на појаву, ток и исход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Ду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 инкубације појединих заразних болести обрнуто сразмерна кол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и проузроков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Ду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ж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ина инкубације појединих заразних болести обрнуто сразмерна коли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ини проузрокова</a:t>
            </a:r>
            <a:r>
              <a:rPr b="0" lang="sr-CS" sz="36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Times Cirilica"/>
              </a:rPr>
              <a:t>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)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др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а епидем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ред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инкубација д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од прос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е за одр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ну болес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више субклин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ких и лаких атип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их инфекција од 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киван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леталитет н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 од прос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н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*)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лиментарне епидем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Cirilica"/>
              </a:rPr>
              <a:t>КОЛИ</a:t>
            </a:r>
            <a:r>
              <a:rPr b="1" lang="sr-CS" sz="40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Times Cirilica"/>
              </a:rPr>
              <a:t>ИНА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Cirilica"/>
              </a:rPr>
              <a:t>(инфективна доза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Зн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јна у предузи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у мера превенц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Доласком у контакт са малом кол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ом проузроков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пре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вамо појаву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убклин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им инфекцијама развија се отпорон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олошки тријас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ген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                  сред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2666880"/>
            <a:ext cx="2666880" cy="213372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8400" y="609480"/>
            <a:ext cx="6232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М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Н = резервоар и/или изв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АГЕНС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Један агенс                              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→ болес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разл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  <a:ea typeface="Arial"/>
              </a:rPr>
              <a:t>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ити ме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  <a:ea typeface="Arial"/>
              </a:rPr>
              <a:t>ђ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усобно неповезани агенси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(алтернативно дејство)                                         → болес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Комплекс два или в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  <a:ea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е агенас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(кумулативно дејство)                                           → болест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Cirilica"/>
              </a:rPr>
              <a:t>Резервоа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оба,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, артропод, б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ка, зем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 или супстанција као и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хова комбинација у којој инфективни агенс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нормално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Cirilica"/>
              </a:rPr>
              <a:t>Ж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ИВИ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и са које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мо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Times Cirilica"/>
              </a:rPr>
              <a:t>ж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Cirilica"/>
              </a:rPr>
              <a:t>е да се пренесе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 на ОСЕТ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ОГ ДОМ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ј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ш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 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и организам, мо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 и не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 сред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зем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истем цеви за топлу вод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imes Ciril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систем за расхл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ива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 вазду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Cirilica"/>
              </a:rPr>
              <a:t>Извор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оба,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а, предмет или супстанција са које се инфективни агенс у одре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ном тренутку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Cirilica"/>
              </a:rPr>
              <a:t>преноси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на осе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ог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 и доводи до појаве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вода за пи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 заг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. typh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ЗEРВО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ОЛЕС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периоду инкубац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 току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продромалнoм стадију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 тип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м клин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 сли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 атип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м клин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 сли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а неманифест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м обл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 бo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90920" y="1752120"/>
            <a:ext cx="9144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36232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240" y="609480"/>
            <a:ext cx="5819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ЈВАЖНИЈИ РЕЗЕРВОА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00"/>
                </a:solidFill>
                <a:latin typeface="Times Cirilica"/>
              </a:rPr>
              <a:t>Ч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ОВЕК</a:t>
            </a:r>
            <a:r>
              <a:rPr b="0" lang="sr-CS" sz="4000" spc="-1" strike="noStrike">
                <a:solidFill>
                  <a:srgbClr val="ffff00"/>
                </a:solidFill>
                <a:latin typeface="Times Cirilica"/>
              </a:rPr>
              <a:t> - </a:t>
            </a:r>
            <a:r>
              <a:rPr b="0" lang="en-US" sz="4000" spc="-1" strike="noStrike">
                <a:solidFill>
                  <a:srgbClr val="ffff00"/>
                </a:solidFill>
                <a:latin typeface="Times Cirilica"/>
              </a:rPr>
              <a:t>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)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У ПЕРИОДУ ИНКУБАЦИЈЕ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резерво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= од продора инфективног агенса у организам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д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првих симптома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кратка инкубација                        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(назеб, грип, бац. дизентерија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инфекција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Ф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интоксикациј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*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дуг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ка инкубациј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(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СИДА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, хепатитис 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Б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рој и вируленција кл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О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сет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ост дом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сто уласка у организ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754640" y="609480"/>
            <a:ext cx="48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На инкубацију ути</a:t>
            </a:r>
            <a:r>
              <a:rPr b="1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ahoma"/>
              </a:rPr>
              <a:t>Инкубаци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1. Болесник у инкубацији НИЈЕ резервоар инфекције (вар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ла, вариола, морбили, пертусис, гри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, т. тифус, паратифус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2. Болесник је резервоар инфекције ПРИ  КРАЈУ инкубације (паротитис, акутне вирусне респираторне болести, полиомијелитис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3. Болесник је резервоар инфекције током ДУ</a:t>
            </a:r>
            <a:r>
              <a:rPr b="0" lang="sr-CS" sz="2800" spc="-1" strike="noStrike">
                <a:solidFill>
                  <a:srgbClr val="ffffff"/>
                </a:solidFill>
                <a:latin typeface="Times Cirilica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Cirilica"/>
              </a:rPr>
              <a:t>ЕГ ПЕРИОДА (хепатитис А, хепатитис Б, хепатитис Ц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ОВЕК</a:t>
            </a: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БОЛЕС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клини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и манифестне или субклини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е, инапарентне)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 резервоар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одромал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тадију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п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ли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ли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ип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ли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сли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манифест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обл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 бo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У продромалном стадијум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зл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је се нај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број клиц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разност нај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ерални стадиј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морбила, вар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е, рубеле, вариол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иктер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 стадијум код вирусног хепатити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н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јан стадијум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дов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 изр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на симптоматологиј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је могу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поставити т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у дијагноз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 -  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4648320"/>
            <a:ext cx="381240" cy="75960"/>
          </a:xfrm>
          <a:custGeom>
            <a:avLst/>
            <a:gdLst>
              <a:gd name="textAreaLeft" fmla="*/ 47520 w 381240"/>
              <a:gd name="textAreaRight" fmla="*/ 333720 w 381240"/>
              <a:gd name="textAreaTop" fmla="*/ 19080 h 75960"/>
              <a:gd name="textAreaBottom" fmla="*/ 57240 h 75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У ТОКУ БОЛЕ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Токoм ТИП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НЕ клин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(испо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и с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птоми карaктерист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и за ту зарaзу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па (морбил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вариола, вар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ла, рубела, скарлaтина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еудом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бране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 поједин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 органима (дифтер. запa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ц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 (пертус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лни с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дром (епидем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мен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тис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рифернe парaлизе (полиoм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јелит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ОВЕК -  БОЛЕС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 У ТОКУ БОЛЕСТ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Токoм ТИП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НЕ клин</a:t>
            </a:r>
            <a:r>
              <a:rPr b="1" lang="sr-CS" sz="3100" spc="-1" strike="noStrike" u="sng">
                <a:solidFill>
                  <a:srgbClr val="ffffff"/>
                </a:solidFill>
                <a:uFillTx/>
                <a:latin typeface="Arial"/>
              </a:rPr>
              <a:t>ич</a:t>
            </a:r>
            <a:r>
              <a:rPr b="1" lang="en-US" sz="31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(испо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и с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птоми карaктерист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ни за ту зарaзу)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резервоар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Немају епидемиолoшки зна</a:t>
            </a: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aј</a:t>
            </a:r>
            <a:r>
              <a:rPr b="1" lang="sr-C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ијагноза нa времe постав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золација и ле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 нa времe постав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ен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арaзност нагло oпадa и кратко траје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(вирусни хепат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ти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с А, пертуси</a:t>
            </a:r>
            <a:r>
              <a:rPr b="0" lang="sr-CS" sz="31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ласификација агенаса и </a:t>
            </a:r>
            <a:r>
              <a:rPr b="0" lang="sr-CS" sz="4000" spc="-1" strike="noStrike">
                <a:solidFill>
                  <a:srgbClr val="ffff00"/>
                </a:solidFill>
                <a:latin typeface="Arial"/>
              </a:rPr>
              <a:t>њ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ихова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арактерист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генси могу би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физ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хемијс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биол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  -  БОЛЕСНИ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) У ТОКУ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шки (фудроајантни, фулминантни, малигни)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мрт пре постав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 дијагноз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злу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ена велика кол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на клиц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хемораг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 вариол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фудроајантни облик епидем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ог менингитис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дифтер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и круп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хемораг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и шарла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лгидна форма колер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хепатитис А код трудниц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Лаки (амбулантни, абортивни) </a:t>
            </a:r>
            <a:r>
              <a:rPr b="1" lang="sr-CS" sz="35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е јав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ају се лекару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ијагноза погрешна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е ле</a:t>
            </a:r>
            <a:r>
              <a:rPr b="0" lang="sr-CS" sz="3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е се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Лаки (амбулантни, абортивни)</a:t>
            </a: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адекватно се л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ар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ла, морбили, руб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арлах без осп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фтер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зап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без псеудомемб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тусис без зац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мбулантни облик трбушног тиф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и проливи код дизентерије и коле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лиомијелитис са катаралним променам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 респираторном и дигестивном трак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русни хепатитис А код де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Током АТИП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НЕ клини</a:t>
            </a:r>
            <a:r>
              <a:rPr b="1" lang="sr-CS" sz="35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ке слике</a:t>
            </a: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gt; Симптоми одступају од карактерис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     кли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е сли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gt; Симптоми интезнивнији и бл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&gt; Ови болесници су епидемиолошки веома зн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Током НЕМАНИФЕСТНОГ облика болест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нема клини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ке слике-симптома и знакова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синоними: латентни, безсимптомни, неприметни, инапарентни, нем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Током НЕМАНИФЕСТНОГ облика боле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стају у слу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ју: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лог броја проузрокова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лабо вирулентних сојев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елими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е (специфи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е или неспецифи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е) 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тпорности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став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 имунитет истог квалитета као и у слу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ју преле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ног м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ифестног обо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ијагноза се постав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а иск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иво лабораторијски (изолација узро</a:t>
            </a:r>
            <a:r>
              <a:rPr b="0" lang="sr-CS" sz="25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ника, серолошке реакције)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ОВЕК - БОЛЕСНИК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б) У ТОКУ БОЛЕСТИ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Током НЕМАНИФЕСТНОГ облика болести</a:t>
            </a:r>
            <a:r>
              <a:rPr b="1" lang="sr-CS" sz="3400" spc="-1" strike="noStrike" u="sng">
                <a:solidFill>
                  <a:srgbClr val="ffffff"/>
                </a:solidFill>
                <a:uFillTx/>
                <a:latin typeface="Arial"/>
              </a:rPr>
              <a:t> резервоар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пидмиолошки зна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ј велик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те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но постав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е дијагнозе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ако шире</a:t>
            </a:r>
            <a:r>
              <a:rPr b="0" lang="sr-CS" sz="3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е заразе на околину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ОВЕК – КЛИЦОНО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Ш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1536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РАВЕ (КОНТАКТНЕ) КЛИЦОН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фекција се задр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 на нивоу колонизације уколико постој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суство диспози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пециф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отпор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ут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о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УТ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 после кли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г оздра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кратко (највише 3 м.) изл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ју к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ковалесцентне, пролазне, приврем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р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то ако је изостало адекватно л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РОН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 клицонош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л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је клице и после 3 м. од прел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не болести (више година или до крај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о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РО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 клицонош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л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је клице и после 3 м. од прел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е болести (више година или до краја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би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ремено (интермитентн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лно (перманентно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собине агeнaс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Инт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т (физ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агенс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Токс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 (хемијс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генс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Вирулент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биолo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 агенс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Ч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Клицоноша ПОСЛЕ ПРЕЛЕ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АНЕ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РОНИЧНО клицоноштв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ифтерија – хронично запаљење слузокоже; више месе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трептококне инфе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више месе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епатитис Б – трансплацентарни пренос, ХИВ, Даунов синдром, пацијенти на хемодијализ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ларија – нелечени или недовољно леч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ЧОВЕК – КЛИЦОН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РАВЕ (КОНТАКТНЕ) КЛИЦОН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шко их је разликовати од неманифестно оболелих болес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лучивање клица је краткотрај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јављају се при епидемијској појави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лицима у непосредној околини болесника – они који негују болесни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тко се откривај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аснији од клицоноша после прележаних бол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I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Е КАО РЕЗЕРВОАРИ ЗАРАЗ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болес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инички манифестно облол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инички неманефестно обол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клицонош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злучују велику количину клиц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вце и краве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гроз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вце и козе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бруцело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виње, краве, др. домаће животиње, глодари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лептоспироз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I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Е КАО РЕЗEРВОАРИ ЗАРAЗ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слободној природи (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ским нас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ма (до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, 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– глодар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д свих об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посебно су зн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не антропозооноз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I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Е КАО РЕЗEРВОАРИ ЗАРAЗ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нтропозоонозе према етиологи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ктеријске: антракс, бовина ТБЦ, туларемија, лептоспирозе, ку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русне:беснило, пситактоза-орнитоза, слинавк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п,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ут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грозница, сезонски енцефалитис, вирусне хемораг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гозниц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кецијске: љ – грозница и други пегавц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тозалне: токсоплазмоза, шистозомијаза, лајшманијаза, трипанозомиј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минтозе: тенијазе, ехинококозе,трихинелоз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Г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: микроспорије, трихофитија, фаву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ОНЦЕПТ ПРИРОДНИХ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РОДНО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 ј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риторија у 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ј природи у којој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и одр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на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на заједниц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улација уз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 која заједно са попул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јом до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а к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ка, а у сл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у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нсмисивних зараза и популацијом вектора, 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ају узр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 у одр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ном биотоп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ОНЦЕПТ ПРИРОДНИХ 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 сл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јно изл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 инфекцији у току след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х активност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шумари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војници за време логоро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њ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марше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овц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оистр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е екип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ланина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алост зар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и који бораве у природном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у зависи о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алентности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а (гладни крп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и инсек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роја изл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е изл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ТРУКТУРА  ПРИРОДНОГ 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Узро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ици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вируси                      г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виц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бактерије                протозо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рикеције                  хелмин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Подел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ришта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према броју узро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ника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једноузро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вишеузро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н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Подел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аришта према броју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ук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у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ених 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ивоти</a:t>
            </a:r>
            <a:r>
              <a:rPr b="1" lang="sr-CS" sz="2600" spc="-1" strike="noStrike" u="sng">
                <a:solidFill>
                  <a:srgbClr val="ffffff"/>
                </a:solidFill>
                <a:uFillTx/>
                <a:latin typeface="Arial"/>
              </a:rPr>
              <a:t>њ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ских врста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једнодом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нск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вишедома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инск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СТРУКТУРА  ПРИРОДНОГ 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ела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а према векторима (инсекти и пауколики зглавкари) који у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твују у пренош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 узр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и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едновектор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ишевектор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размно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ди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х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, вектора и микроорганизама у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: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мене везане за сезо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активност природног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ришта (гаш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или уд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в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 од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ских нас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) ути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: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ктивност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в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НТРОПУРГ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НО 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Р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Т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потрази за храном ди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прибл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ају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ришта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дским насе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м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и у ензоотски процес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к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љ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ују и дома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и глодар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п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и менингоенцефалити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римска-Конго хемораг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гоз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собине агeнaс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сокo инфектив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аген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једнократно излагa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 → бол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уг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фективн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агенс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мног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ж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и аген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→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 кол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ч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; д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ло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е → бол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венција природн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них инфекц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азира на позна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 карактеристика ензоотског процеса у конкретном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сновни принцип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ециф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 зашт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м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контакта са резервоаром и преносиоцем узр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кид кр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узр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ика у природном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ришт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УЛАЗНА  И  ИЗЛАЗНА  МЕСТА  ИНФЕКЦИЈ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узница респираторног тра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узница дигестивног трак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д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е слузни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457200" y="838080"/>
          <a:ext cx="8229600" cy="5294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АВНО ул</a:t>
                      </a: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но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рочник, болес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ОРЕДНО ул</a:t>
                      </a: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но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мес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сп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раторног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ептококна инфекција,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фериј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љ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ва слуз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ц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дигестив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рус дечје парализ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респиратор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ж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нтрак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дигестивног тракта и респиратор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икро и макро лезије коже и видљивих слуз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ептоспитроз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лузница дигестивног тра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80880" y="838080"/>
          <a:ext cx="8229600" cy="5854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спиратор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рип, м. боги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, назеб, зау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е, велики к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љ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шарла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рев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.тифус, паратифус А,Б, бац. диз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нтерија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вир. хепатитис А, де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ја парализа, колера, тров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 хран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кторск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рија, пегави т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фус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повратни т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фус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ж. грозница, денга, папата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 грозница, лај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нијаза, трипанозомијаз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ж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рункулоза, карбункулоза, флегмона, импетиго, актиномикоза, трихофитија, фавус, еризип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фекције ра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танус, гасна гангре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чна обоље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хом, бленореја, ко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њ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ктивитис разли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е етиологиј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не болес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нореја, сифилис,</a:t>
                      </a: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В инфекција, вирусни хепатитис Б и Ц, генитални херпе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1149480" y="228600"/>
            <a:ext cx="68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ЕПИДЕМИОЛО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КА КЛАСИФИКАЦИЈА ЗАРАЗНИХ БОЛЕСТИ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(са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и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њ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ена на основу ГЛАВНОГ улазног места поузрокова</a:t>
            </a:r>
            <a:r>
              <a:rPr b="0" lang="sr-CS" sz="1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ЕПИДЕМИОЛО</a:t>
            </a:r>
            <a:r>
              <a:rPr b="0" lang="sr-CS" sz="24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КА КЛАСИФИКАЦИЈА ЗАРАЗНИХ БОЛЕСТИ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ТРОПОЗООНОЗЕ (једно или више улазних места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тракс, бруцелоза, туларемија, куга,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грозница, лептоспироз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инитоза-пситакоза, слинавк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или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ап, сакагија, беснил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ИВОТНА  СРЕДИН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веукупност спо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их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нилаца 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ве и не</a:t>
            </a:r>
            <a:r>
              <a:rPr b="1" lang="sr-CS" sz="36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иве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ироде који делују на одр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ену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јединицу или еколошку заједницу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дре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ју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sr-CS" sz="36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хов развој и опстана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ивотна средина (екосфера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ој з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е коре, ук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ј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воду и ваздух у коме је смештен целокупни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и св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биотска – ге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иотска – би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ИВОТНА  СРЕДИН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КОЛОГ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ука о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односима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ж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вих би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ћ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а и средин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ја их окр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је (остале јединке исте врсте, флора и фауна и целокупа н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 природ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ИВОТНА  СРЕДИ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ПИДЕМИОЛОГ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ДИЦИНСКА (ХУМАНА) ЕКОЛОГИ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ва м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обне односе </a:t>
            </a:r>
            <a:r>
              <a:rPr b="1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ч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овека и седин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који имају утицаја на здра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. АБИОТСКА (ГЕОФИЗИ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А) СРЕДИ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ухвата н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у природу – геосфе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вода, кисеоник, минерали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тм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идр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тосф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ФИЗИ</a:t>
            </a:r>
            <a:r>
              <a:rPr b="0" lang="sr-CS" sz="4400" spc="-1" strike="noStrike">
                <a:solidFill>
                  <a:srgbClr val="ffff00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КИ АГЕНС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мпература (ниска и висо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низују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 зр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ха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и агенси (механ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 сила, звук, потрес, вибрациј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. АБИОТСКА (ГЕОФИЗ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ЕОЛО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И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иоц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РЕКТАН утицај на здрав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ендемска гу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ш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авос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недостатак јода у тлу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у вод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флуроз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зуба због по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садр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ја F2 у вод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рак плу</a:t>
            </a:r>
            <a:r>
              <a:rPr b="0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ћ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пов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а еманација радона из тла пој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а природни фон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диоактивности терен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АБИОТСКА (ГЕОФИЗИ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ЕОГРАФСКИ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иоц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РЕКТНИ утицај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на здрављ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ДИРЕКТА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утицај на топографску расподелу боле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. БИОТСКА (БИОЛ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ва би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и односи које она м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обно успостав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лоније мува и п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дска зајед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БИОТСКА (БИОЛО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РЕКТНИ ЕФЕК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или б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е доводе до порем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ја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дског здрав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ро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ици заразних болести (вируси, рикеције, бактерије, г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ице, протозое и в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лијски паразит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овне б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е (р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на главица, буни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овне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(пауци, змије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осет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ст на ина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н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е б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е и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е (полен, перје и др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БИОТСКА (БИОЛО</a:t>
            </a:r>
            <a:r>
              <a:rPr b="0" lang="sr-CS" sz="28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ДИРЕКТНИ ЕФЕК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ктор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имални резервоари зараз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БИОТСКА (БИОЛО</a:t>
            </a: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Ш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КО-СОЦИЈАЛНА) СРЕДИН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УТИЦАЈ НА ЗДРАВСТВЕНО СТА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УД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про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лости (б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е,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вот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) неухр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ност, умир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 од глади и заразних болести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Данас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односи у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љ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удској заједниц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социо-економско ст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, доступни обрасци пон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на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н 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вота (исхрана, пу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е, физи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ка активност, потро</a:t>
            </a:r>
            <a:r>
              <a:rPr b="0" lang="sr-CS" sz="3000" spc="-1" strike="noStrike">
                <a:solidFill>
                  <a:srgbClr val="ffffff"/>
                </a:solidFill>
                <a:latin typeface="Arial"/>
              </a:rPr>
              <a:t>шњ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а алкохола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ahoma"/>
              </a:rPr>
              <a:t>Најзначајнији хемијски агенс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4400" spc="-1" strike="noStrike">
                <a:solidFill>
                  <a:srgbClr val="ffffff"/>
                </a:solidFill>
                <a:latin typeface="Arial"/>
              </a:rPr>
              <a:t>Пестици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нсектици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фунгици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хербици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У прехрамбеној индустриј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синтетске бо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онзерван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антиоксидан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Леков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274680"/>
          <a:ext cx="8229600" cy="5820840"/>
        </p:xfrm>
        <a:graphic>
          <a:graphicData uri="http://schemas.openxmlformats.org/drawingml/2006/table">
            <a:tbl>
              <a:tblPr/>
              <a:tblGrid>
                <a:gridCol w="1905120"/>
                <a:gridCol w="2361960"/>
                <a:gridCol w="3962520"/>
              </a:tblGrid>
              <a:tr h="8280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ЕМИЈСКИ АГЕНС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ТРOВ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ГЗОГЕНО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рек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РГАНСКИ 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халогени ел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О, Pb, Hg, 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елине, базе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СКИ</a:t>
                      </a:r>
                      <a:r>
                        <a:rPr b="0" lang="sr-C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хлороформ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тар, алкохол бензол, фенo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ОЛОШКОГ порекл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оксини отрoвних гљив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лкалоиди и гликозид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љног порекла, отрови змиј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секат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8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НДОГЕНО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рек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емија, хепатитична ком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јабетична ком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погликемијска</a:t>
                      </a: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зa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перхолестеролемиј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r>
                        <a:rPr b="0" lang="sr-Latn-C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монски дисбалан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Cirilica"/>
              </a:rPr>
              <a:t>БИОЛО</a:t>
            </a:r>
            <a:r>
              <a:rPr b="0" lang="sr-CS" sz="4400" spc="-1" strike="noStrike">
                <a:solidFill>
                  <a:srgbClr val="ffffcc"/>
                </a:solidFill>
                <a:latin typeface="Times Cirilica"/>
              </a:rPr>
              <a:t>Ш</a:t>
            </a:r>
            <a:r>
              <a:rPr b="0" lang="en-US" sz="4400" spc="-1" strike="noStrike">
                <a:solidFill>
                  <a:srgbClr val="ffffcc"/>
                </a:solidFill>
                <a:latin typeface="Times Cirilica"/>
              </a:rPr>
              <a:t>КИ АГЕНС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Проузрокова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 заразних боле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ру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Р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кециј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Гљ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ивиц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П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ротоз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Times Cirilica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Times Cirilica"/>
              </a:rPr>
              <a:t>етазо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7-01-09T11:35:39Z</dcterms:modified>
  <cp:revision>1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