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01B6-00C7-42B3-AF6E-A083F3C5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23E-4E9A-408D-B6F1-0F2A905B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D1F3-A873-4DB8-BD56-3F69D67A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A9D-3487-4C43-A839-66850119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3167-C7C1-4083-BA61-C767F1D4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43BE-8832-4152-9403-D295D3EF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0F79-DDBF-43CB-AD27-6AF88917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09F3-4D9C-49BE-9550-8718ACF6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D1C7-7CA9-4C0B-9C3B-A2046E64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0CB9-3DB1-4B34-8971-1F55B3C6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1D05-E0CF-44B3-AB10-67EBE6E2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790-BE9B-42B4-9097-02D7D201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727F-32C0-48BC-B3C6-C74D929A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3E8C-09DD-4E45-B545-923FBAF6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8B98-891B-4F3A-AB92-5E0EDBC3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B285-5430-4202-958D-EDF039F0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4EF7-4A16-4B67-ABC1-53B9A157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031-8265-489D-B7D2-69BE2AF6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11E-5957-4176-99B4-2969E0F1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C86-898C-4F14-BF23-B890A48A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E5C-829E-4DF2-8107-15A63FB8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427-DE19-445A-9463-A3A89514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912-AE5D-4E78-87DF-ED43203F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7A48-5C85-4255-85B9-2DDB50C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5D61-47AB-4569-A1AA-96EB6C5D5C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C2B2-BF93-4C46-9C3E-AA3305F32F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лошки тријас шире представљ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Затворен ланац инфекције са пет елем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редставља модификацију еколошког триј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Међусобна повезаност пет саставних карика испуњава услов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127240" y="1770480"/>
            <a:ext cx="4661640" cy="4815000"/>
            <a:chOff x="2127240" y="1770480"/>
            <a:chExt cx="4661640" cy="4815000"/>
          </a:xfrm>
        </p:grpSpPr>
        <p:sp>
          <p:nvSpPr>
            <p:cNvPr id="140" name="_s17417"/>
            <p:cNvSpPr/>
            <p:nvPr/>
          </p:nvSpPr>
          <p:spPr>
            <a:xfrm>
              <a:off x="3253680" y="177048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7422"/>
            <p:cNvSpPr/>
            <p:nvPr/>
          </p:nvSpPr>
          <p:spPr>
            <a:xfrm rot="4320000">
              <a:off x="3861360" y="25545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_s17424"/>
            <p:cNvSpPr/>
            <p:nvPr/>
          </p:nvSpPr>
          <p:spPr>
            <a:xfrm rot="8640000">
              <a:off x="3724920" y="341496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_s17418"/>
            <p:cNvSpPr/>
            <p:nvPr/>
          </p:nvSpPr>
          <p:spPr>
            <a:xfrm rot="12960000">
              <a:off x="2778120" y="3412440"/>
              <a:ext cx="2408760" cy="27223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_s17420"/>
            <p:cNvSpPr/>
            <p:nvPr/>
          </p:nvSpPr>
          <p:spPr>
            <a:xfrm rot="17280000">
              <a:off x="2332080" y="2552760"/>
              <a:ext cx="2722320" cy="2408760"/>
            </a:xfrm>
            <a:custGeom>
              <a:avLst/>
              <a:gdLst>
                <a:gd name="textAreaLeft" fmla="*/ 0 w 2722320"/>
                <a:gd name="textAreaRight" fmla="*/ 2722680 w 2722320"/>
                <a:gd name="textAreaTop" fmla="*/ 0 h 2408760"/>
                <a:gd name="textAreaBottom" fmla="*/ 2409120 h 240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_s17415"/>
            <p:cNvSpPr/>
            <p:nvPr/>
          </p:nvSpPr>
          <p:spPr>
            <a:xfrm>
              <a:off x="507636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Пут ширења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_s17416"/>
            <p:cNvSpPr/>
            <p:nvPr/>
          </p:nvSpPr>
          <p:spPr>
            <a:xfrm>
              <a:off x="22978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Диспозициј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_s17419"/>
            <p:cNvSpPr/>
            <p:nvPr/>
          </p:nvSpPr>
          <p:spPr>
            <a:xfrm>
              <a:off x="2953440" y="1885680"/>
              <a:ext cx="88488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Резервоар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_s17421"/>
            <p:cNvSpPr/>
            <p:nvPr/>
          </p:nvSpPr>
          <p:spPr>
            <a:xfrm>
              <a:off x="5732280" y="4167720"/>
              <a:ext cx="88488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Улазно место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_s17423"/>
            <p:cNvSpPr/>
            <p:nvPr/>
          </p:nvSpPr>
          <p:spPr>
            <a:xfrm>
              <a:off x="4014720" y="5577480"/>
              <a:ext cx="885240" cy="9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2400" spc="-1" strike="noStrike">
                  <a:solidFill>
                    <a:srgbClr val="ffffff"/>
                  </a:solidFill>
                  <a:latin typeface="Times New Roman"/>
                </a:rPr>
                <a:t>Количина и вируленција клиц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ВОГРАЛИКОВ ЛАНАЦ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Испадање било које карике из ланца инфекције онемогућава појаву заразне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епидемиологије појединих инфективних болести омогућава да се практичне мере усмере према оним факторима чијим се искључивањем постиже најлакше и најефикасније раскидање ланца и спречавање даљег ширења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редишњим делом представља човека (домаћина) са генетским детерминантама у цен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Човека окружује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даје већи нагласак проузроковачима у односу на остале значајне факторе биолошке сред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сматра одвојено домаћина од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одел точ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641600" y="1784520"/>
            <a:ext cx="5860800" cy="41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ОДЕЛ ТОЧКА И МРЕЖА УЗРОЧ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 истичу 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глашавају многоструке интеракције између домаћина и среди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Резултат прим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х метода у проучавању хроничних незараз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Један од новијих приступа етиолошком расветљавањ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најчешће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зависи од једног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зависи од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низа узрочних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компонената повезаних у ланац у коме сваком од њих претходи низ других и тако заједно чине мрежу узроч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Мрежа узрочности-многоструки чиниоци који доводе до срчаног инфаркт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6705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1833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Циљ: сагледати комплексне каузалне асоцијац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Стање здравља и болести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резултат стално дејствујућих снага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њихове међусобне интеракције у оквиру еколошког система (човек-домаћин са факторима живе и неживе сред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Границу мреже тешко одредити Комплетно сазнање немогуће Мултиузрочност посматрана овим епидемиолошким мод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ложени механизми међусобно испреплетаних помажућих фактора за које је сигурно утврђено да доприносе појави једне од најчешћих болести савременог друш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ваки од познатих фактора завистан од бројних других узрочних компонен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Мрежа узроч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а основу постојећих сазнања у каузалности срчаног инфаркта препоручити акције у правцу превенције болести (промене у начину исхране, лечење хипертензије, промена ставова према пушењу, ризичним активностим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спровођење превентивних м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НИЈ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нужно потребно открити све посредне и непосредне механизме каузално везане за појаву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сматрање мултиузрочности омогућава спречавање болести раскидањем ланца у различитим ниво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бољење проузроковано НЕпознатим агенс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-закључак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ДАНАС правце превенције одређу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Емпириско откривање повезаности великог броја поремећаја здравља са још увек недовољно познатом етиологијиом, а представљено мрежом узрочност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срчаних боле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алигних тумо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можданог удар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дијабете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Garamond"/>
              </a:rPr>
              <a:t>- ендемске нефропатиј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Утврђивање узрока и узрочних односа применом епидемиолошких метода је од осоновног значаја за спречавањ и сузбијање болест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Епидемиолошки модели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, поједностављеним приказом број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интеракција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у комплексном еколошком систему, помажу у приказивању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Garamond"/>
              </a:rPr>
              <a:t>мултикаузалне природе</a:t>
            </a:r>
            <a:r>
              <a:rPr b="1" lang="sr-CS" sz="3600" spc="-1" strike="noStrike">
                <a:solidFill>
                  <a:srgbClr val="ffffff"/>
                </a:solidFill>
                <a:latin typeface="Garamond"/>
              </a:rPr>
              <a:t> обољењ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 успешно спровођење програма превенције и сузбијање болести НИЈЕ потребно потпуно сазнање етиолошких механиз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Закључак о аспектима узрочности у епидемиологиј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ознавањем многоструких еколошких реакција, често је могуће утицати на обољење чак и када агенс није познат тј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Комплексне каузалне асоцијације сагледане кроз епидемиолошке моделе (најпотпуније мрежом узрочности) указује на тачке у којима се ланац који води до болести може најлакше и најуспешније прекину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Основно начело епидемиолог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неопходност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еколошког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приступа у објашњавању појаве болести или патолошких ст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Епидемиолошки мод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представљају многоструке интеракције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Еколошки тријас (епидемиолошки тријас, Гордонов триј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Чине агенс, домаћин и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Захтева добро познавање свих фактора у вези с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узроком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карактеристикама домаћ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- сред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b9efee"/>
                </a:solidFill>
                <a:latin typeface="Garamond"/>
              </a:rPr>
              <a:t>Еколошки тријас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домаћин                                     сред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2362320"/>
            <a:ext cx="3505320" cy="289548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Феномен сталне промен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стоји иза сваког стања здравља и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илуструје 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принципом полуг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b9efee"/>
                </a:solidFill>
                <a:latin typeface="Garamond"/>
              </a:rPr>
              <a:t>Поремећај равнотеже фактора у еколошком тријасу одређује појаву болест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4038480"/>
            <a:ext cx="1676160" cy="15242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сред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962520"/>
            <a:ext cx="54864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3048120"/>
            <a:ext cx="1143000" cy="91440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аген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53880" y="3250800"/>
            <a:ext cx="681120" cy="516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Garamond"/>
              </a:rPr>
              <a:t>домаћин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Епидемиолошки модели боле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Познавање међузависности еколошких факт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омогућава изналажење адекватних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мера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којима би с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спречио поремећај равнотеже на штету домаћ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b9efee"/>
                </a:solidFill>
                <a:latin typeface="Garamond"/>
              </a:rPr>
              <a:t>Карактеристике епидемиолошког тријаса 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Издвојено посматрањ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агенса</a:t>
            </a:r>
            <a:r>
              <a:rPr b="1" lang="sr-CS" sz="3200" spc="-1" strike="noStrike">
                <a:solidFill>
                  <a:srgbClr val="ffffff"/>
                </a:solidFill>
                <a:latin typeface="Garamond"/>
              </a:rPr>
              <a:t> болести који је један међу бројним чињеницама значајним за оболева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9:55:31Z</dcterms:created>
  <dc:creator>Mihailo</dc:creator>
  <dc:description/>
  <dc:language>en-US</dc:language>
  <cp:lastModifiedBy> </cp:lastModifiedBy>
  <dcterms:modified xsi:type="dcterms:W3CDTF">2017-01-09T11:38:47Z</dcterms:modified>
  <cp:revision>28</cp:revision>
  <dc:subject/>
  <dc:title>Епидемиолошки модели боле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lications">
    <vt:lpwstr>67;#PowerPoint - Design Templt 12;#65;#Microsoft Office PowerPoint 2007;#184;#Office 2000;#64;#PowerPoint 2003;#182;#Office XP;#79;#Template 12;#66;#PowerPoint - Design Templt 2003</vt:lpwstr>
  </property>
  <property fmtid="{D5CDD505-2E9C-101B-9397-08002B2CF9AE}" pid="6" name="AssetId">
    <vt:lpwstr>TS001069064</vt:lpwstr>
  </property>
  <property fmtid="{D5CDD505-2E9C-101B-9397-08002B2CF9AE}" pid="7" name="AssetType">
    <vt:lpwstr>TP</vt:lpwstr>
  </property>
  <property fmtid="{D5CDD505-2E9C-101B-9397-08002B2CF9AE}" pid="8" name="AuthoringAssetId">
    <vt:lpwstr>TP001069064</vt:lpwstr>
  </property>
  <property fmtid="{D5CDD505-2E9C-101B-9397-08002B2CF9AE}" pid="9" name="Content Type">
    <vt:lpwstr>OOFile</vt:lpwstr>
  </property>
  <property fmtid="{D5CDD505-2E9C-101B-9397-08002B2CF9AE}" pid="10" name="ContentTypeId">
    <vt:lpwstr>0x0101006025706CF4CD034688BEBAE97A2E701D020200C3831ACA17D8814887A164412888521E</vt:lpwstr>
  </property>
  <property fmtid="{D5CDD505-2E9C-101B-9397-08002B2CF9AE}" pid="11" name="IsDeleted">
    <vt:lpwstr>0</vt:lpwstr>
  </property>
  <property fmtid="{D5CDD505-2E9C-101B-9397-08002B2CF9AE}" pid="12" name="IsSearchable">
    <vt:lpwstr>0</vt:lpwstr>
  </property>
  <property fmtid="{D5CDD505-2E9C-101B-9397-08002B2CF9AE}" pid="13" name="Markets">
    <vt:lpwstr/>
  </property>
  <property fmtid="{D5CDD505-2E9C-101B-9397-08002B2CF9AE}" pid="14" name="Milestone">
    <vt:lpwstr>Continuous</vt:lpwstr>
  </property>
  <property fmtid="{D5CDD505-2E9C-101B-9397-08002B2CF9AE}" pid="15" name="NumericId">
    <vt:lpwstr>-1.00000000000000</vt:lpwstr>
  </property>
  <property fmtid="{D5CDD505-2E9C-101B-9397-08002B2CF9AE}" pid="16" name="OpenTemplate">
    <vt:lpwstr>1</vt:lpwstr>
  </property>
  <property fmtid="{D5CDD505-2E9C-101B-9397-08002B2CF9AE}" pid="17" name="PrimaryImageGen">
    <vt:lpwstr>1</vt:lpwstr>
  </property>
  <property fmtid="{D5CDD505-2E9C-101B-9397-08002B2CF9AE}" pid="18" name="Provider">
    <vt:lpwstr>EY006220130</vt:lpwstr>
  </property>
  <property fmtid="{D5CDD505-2E9C-101B-9397-08002B2CF9AE}" pid="19" name="PublishStatusLookup">
    <vt:lpwstr>256070</vt:lpwstr>
  </property>
  <property fmtid="{D5CDD505-2E9C-101B-9397-08002B2CF9AE}" pid="20" name="PublishTargets">
    <vt:lpwstr>OfficeOnline</vt:lpwstr>
  </property>
  <property fmtid="{D5CDD505-2E9C-101B-9397-08002B2CF9AE}" pid="21" name="ShowIn">
    <vt:lpwstr>Show everywhere</vt:lpwstr>
  </property>
  <property fmtid="{D5CDD505-2E9C-101B-9397-08002B2CF9AE}" pid="22" name="SourceTitle">
    <vt:lpwstr>Rules design template</vt:lpwstr>
  </property>
  <property fmtid="{D5CDD505-2E9C-101B-9397-08002B2CF9AE}" pid="23" name="TPAppVersion">
    <vt:lpwstr>11</vt:lpwstr>
  </property>
  <property fmtid="{D5CDD505-2E9C-101B-9397-08002B2CF9AE}" pid="24" name="TPApplication">
    <vt:lpwstr>PowerPoint</vt:lpwstr>
  </property>
  <property fmtid="{D5CDD505-2E9C-101B-9397-08002B2CF9AE}" pid="25" name="TPClientViewer">
    <vt:lpwstr>Microsoft Office PowerPoint</vt:lpwstr>
  </property>
  <property fmtid="{D5CDD505-2E9C-101B-9397-08002B2CF9AE}" pid="26" name="TPCommandLine">
    <vt:lpwstr>{PP} {FilePath}</vt:lpwstr>
  </property>
  <property fmtid="{D5CDD505-2E9C-101B-9397-08002B2CF9AE}" pid="27" name="TPComponent">
    <vt:lpwstr>PPTFiles</vt:lpwstr>
  </property>
  <property fmtid="{D5CDD505-2E9C-101B-9397-08002B2CF9AE}" pid="28" name="TPFriendlyName">
    <vt:lpwstr>Rules design template</vt:lpwstr>
  </property>
  <property fmtid="{D5CDD505-2E9C-101B-9397-08002B2CF9AE}" pid="29" name="TPInstallLocation">
    <vt:lpwstr>{Document Themes}</vt:lpwstr>
  </property>
  <property fmtid="{D5CDD505-2E9C-101B-9397-08002B2CF9AE}" pid="30" name="TPLaunchHelpLink">
    <vt:lpwstr/>
  </property>
  <property fmtid="{D5CDD505-2E9C-101B-9397-08002B2CF9AE}" pid="31" name="TPLaunchHelpLinkType">
    <vt:lpwstr>Template</vt:lpwstr>
  </property>
  <property fmtid="{D5CDD505-2E9C-101B-9397-08002B2CF9AE}" pid="32" name="TPNamespace">
    <vt:lpwstr>POWERPNT</vt:lpwstr>
  </property>
  <property fmtid="{D5CDD505-2E9C-101B-9397-08002B2CF9AE}" pid="33" name="TemplateStatus">
    <vt:lpwstr>Complete</vt:lpwstr>
  </property>
  <property fmtid="{D5CDD505-2E9C-101B-9397-08002B2CF9AE}" pid="34" name="TrustLevel">
    <vt:lpwstr>Microsoft Managed Content</vt:lpwstr>
  </property>
  <property fmtid="{D5CDD505-2E9C-101B-9397-08002B2CF9AE}" pid="35" name="UACurrentWords">
    <vt:lpwstr>0</vt:lpwstr>
  </property>
  <property fmtid="{D5CDD505-2E9C-101B-9397-08002B2CF9AE}" pid="36" name="UALocRecommendation">
    <vt:lpwstr>Localize</vt:lpwstr>
  </property>
  <property fmtid="{D5CDD505-2E9C-101B-9397-08002B2CF9AE}" pid="37" name="UANotes">
    <vt:lpwstr>LEGACY PPTDT. 421488L. June 2003 retrofit</vt:lpwstr>
  </property>
  <property fmtid="{D5CDD505-2E9C-101B-9397-08002B2CF9AE}" pid="38" name="Version">
    <vt:r8>1</vt:r8>
  </property>
  <property fmtid="{D5CDD505-2E9C-101B-9397-08002B2CF9AE}" pid="39" name="display_urn:schemas-microsoft-com:office:office#APAuthor">
    <vt:lpwstr>REDMOND\cynvey</vt:lpwstr>
  </property>
  <property fmtid="{D5CDD505-2E9C-101B-9397-08002B2CF9AE}" pid="40" name="display_urn:schemas-microsoft-com:office:office#APEditor">
    <vt:lpwstr>REDMOND\v-luannv</vt:lpwstr>
  </property>
</Properties>
</file>